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C628-338E-4127-912F-390E0472A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DADD-A7AB-4FDD-BCC2-E6DB8D28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63C1-035B-4163-A71B-6E6EDB050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76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88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76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88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6D08-4F4F-4F2E-B6A0-4E4A771A4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229F-35F0-4888-B301-0912A686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C16A-CFE5-494A-9ADB-64A78069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AB84-A1EA-4001-A6CF-5BFF9BAA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7931-C5CC-4BF4-B5DD-69CCE4BB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54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0555-44AD-488E-8081-58175DFC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9831-9EA5-4959-AE4A-5648921F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3024-9F9A-4A6C-80E3-8E0A46DB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C918-CB1C-4EBA-98D1-5C9571D9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737640"/>
            <a:ext cx="1765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3000" y="9737640"/>
            <a:ext cx="23954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8000" y="9737640"/>
            <a:ext cx="17654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BA2F-6958-4539-A47C-A807977B93F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ild 8" descr="Logo_BürgerForum.png"/>
          <p:cNvPicPr/>
          <p:nvPr/>
        </p:nvPicPr>
        <p:blipFill>
          <a:blip r:embed="rId1"/>
          <a:stretch/>
        </p:blipFill>
        <p:spPr>
          <a:xfrm>
            <a:off x="6072120" y="10024920"/>
            <a:ext cx="1332000" cy="590760"/>
          </a:xfrm>
          <a:prstGeom prst="rect">
            <a:avLst/>
          </a:prstGeom>
          <a:ln w="0">
            <a:noFill/>
          </a:ln>
        </p:spPr>
      </p:pic>
      <p:sp>
        <p:nvSpPr>
          <p:cNvPr id="42" name="Textfeld 1"/>
          <p:cNvSpPr/>
          <p:nvPr/>
        </p:nvSpPr>
        <p:spPr>
          <a:xfrm flipH="1">
            <a:off x="181080" y="411120"/>
            <a:ext cx="722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Frutiger 45"/>
              </a:rPr>
              <a:t>Wie zufrieden sind Sie mit der 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Frutiger 45"/>
              </a:rPr>
              <a:t>Auftaktwerkstatt des BürgerForu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bgerundetes Rechteck 3"/>
          <p:cNvSpPr/>
          <p:nvPr/>
        </p:nvSpPr>
        <p:spPr>
          <a:xfrm>
            <a:off x="3324240" y="1962000"/>
            <a:ext cx="900000" cy="7345440"/>
          </a:xfrm>
          <a:custGeom>
            <a:avLst/>
            <a:gdLst>
              <a:gd name="textAreaLeft" fmla="*/ 126360 w 900000"/>
              <a:gd name="textAreaRight" fmla="*/ 773640 w 900000"/>
              <a:gd name="textAreaTop" fmla="*/ 126360 h 7345440"/>
              <a:gd name="textAreaBottom" fmla="*/ 7219080 h 7345440"/>
            </a:gdLst>
            <a:ahLst/>
            <a:rect l="textAreaLeft" t="textAreaTop" r="textAreaRight" b="textAreaBottom"/>
            <a:pathLst>
              <a:path w="21600" h="176229">
                <a:moveTo>
                  <a:pt x="10353" y="0"/>
                </a:moveTo>
                <a:arcTo wR="10353" hR="10353" stAng="16200000" swAng="-5400000"/>
                <a:lnTo>
                  <a:pt x="0" y="165876"/>
                </a:lnTo>
                <a:arcTo wR="10353" hR="10353" stAng="10800000" swAng="-5400000"/>
                <a:lnTo>
                  <a:pt x="11247" y="176229"/>
                </a:lnTo>
                <a:arcTo wR="10353" hR="10353" stAng="5400000" swAng="-5400000"/>
                <a:lnTo>
                  <a:pt x="21600" y="10353"/>
                </a:lnTo>
                <a:arcTo wR="10353" hR="10353" stAng="0" swAng="-5400000"/>
                <a:close/>
              </a:path>
            </a:pathLst>
          </a:custGeom>
          <a:gradFill rotWithShape="0">
            <a:gsLst>
              <a:gs pos="0">
                <a:srgbClr val="00b050"/>
              </a:gs>
              <a:gs pos="100000">
                <a:srgbClr val="ff0000"/>
              </a:gs>
            </a:gsLst>
            <a:lin ang="5400000"/>
          </a:gra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miley 4"/>
          <p:cNvSpPr/>
          <p:nvPr/>
        </p:nvSpPr>
        <p:spPr>
          <a:xfrm>
            <a:off x="3997440" y="2610000"/>
            <a:ext cx="1258920" cy="1260360"/>
          </a:xfrm>
          <a:prstGeom prst="smileyFace">
            <a:avLst>
              <a:gd name="adj" fmla="val 9282"/>
            </a:avLst>
          </a:prstGeom>
          <a:solidFill>
            <a:srgbClr val="a3a3e0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miley 13"/>
          <p:cNvSpPr/>
          <p:nvPr/>
        </p:nvSpPr>
        <p:spPr>
          <a:xfrm>
            <a:off x="3997440" y="5418000"/>
            <a:ext cx="1258920" cy="1260720"/>
          </a:xfrm>
          <a:prstGeom prst="smileyFace">
            <a:avLst>
              <a:gd name="adj" fmla="val 28"/>
            </a:avLst>
          </a:prstGeom>
          <a:solidFill>
            <a:srgbClr val="a3a3e0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Ellipse 2"/>
          <p:cNvSpPr/>
          <p:nvPr/>
        </p:nvSpPr>
        <p:spPr>
          <a:xfrm>
            <a:off x="2975040" y="8763120"/>
            <a:ext cx="1619280" cy="1619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miley 14"/>
          <p:cNvSpPr/>
          <p:nvPr/>
        </p:nvSpPr>
        <p:spPr>
          <a:xfrm>
            <a:off x="3997440" y="8109000"/>
            <a:ext cx="1258920" cy="1260360"/>
          </a:xfrm>
          <a:prstGeom prst="smileyFace">
            <a:avLst>
              <a:gd name="adj" fmla="val -4652"/>
            </a:avLst>
          </a:prstGeom>
          <a:solidFill>
            <a:srgbClr val="a3a3e0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Bild 1" descr=""/>
          <p:cNvPicPr/>
          <p:nvPr/>
        </p:nvPicPr>
        <p:blipFill>
          <a:blip r:embed="rId2"/>
          <a:stretch/>
        </p:blipFill>
        <p:spPr>
          <a:xfrm>
            <a:off x="212760" y="1596960"/>
            <a:ext cx="6927840" cy="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12:59:45Z</dcterms:created>
  <dc:creator>Ibo Peters</dc:creator>
  <dc:description/>
  <dc:language>en-US</dc:language>
  <cp:lastModifiedBy>Bussieweke, Marita, ST-ZD</cp:lastModifiedBy>
  <dcterms:modified xsi:type="dcterms:W3CDTF">2014-09-24T12:12:32Z</dcterms:modified>
  <cp:revision>21</cp:revision>
  <dc:subject/>
  <dc:title>Folie 1</dc:title>
</cp:coreProperties>
</file>