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7559675" cy="10691813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A92F-D2D2-4429-A8BE-6337AA9E3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680544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6180840"/>
            <a:ext cx="680544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9739-6FFE-48B3-9603-94BA0BBB8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532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ED6E-99D1-4E7E-9F74-2023FE792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8760" y="249516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79880" y="249516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618084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8760" y="618084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79880" y="618084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D337-6B93-4F9D-B1EA-3D2341E28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2495160"/>
            <a:ext cx="680544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78D6-D1D3-458D-9D2B-79854E63A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680544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C548-EBF6-48C1-96F8-22BC93BC2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A970-CCDE-4545-AE4E-BAF507C94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C9CC-67BA-49F4-AB7D-EEC6104E1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428400"/>
            <a:ext cx="680544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F8D4-2BE8-49A0-84ED-20E48C981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CFE1-3C6A-4CC3-A0DC-A524C20D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532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D75C-F984-408D-A65C-50B1D88B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6180840"/>
            <a:ext cx="680544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F312-F193-4AF6-AABE-1E48A270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2495160"/>
            <a:ext cx="680544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7640" y="9737640"/>
            <a:ext cx="1765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83000" y="9737640"/>
            <a:ext cx="239544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18000" y="9737640"/>
            <a:ext cx="176544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E0C5B-9F11-4C5D-9ADC-2AB82927BA5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feld 1"/>
          <p:cNvSpPr/>
          <p:nvPr/>
        </p:nvSpPr>
        <p:spPr>
          <a:xfrm flipH="1">
            <a:off x="181080" y="162000"/>
            <a:ext cx="722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70c0"/>
                </a:solidFill>
                <a:latin typeface="Frutiger 45"/>
              </a:rPr>
              <a:t>TOP1-Bürgervorschlag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70c0"/>
                </a:solidFill>
                <a:latin typeface="Frutiger 45"/>
              </a:rPr>
              <a:t>Ausschuss 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Bild 8" descr="Logo_BürgerForum.png"/>
          <p:cNvPicPr/>
          <p:nvPr/>
        </p:nvPicPr>
        <p:blipFill>
          <a:blip r:embed="rId1"/>
          <a:stretch/>
        </p:blipFill>
        <p:spPr>
          <a:xfrm>
            <a:off x="6072120" y="147600"/>
            <a:ext cx="13320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Bild 8" descr="Logo_BürgerForum.png"/>
          <p:cNvPicPr/>
          <p:nvPr/>
        </p:nvPicPr>
        <p:blipFill>
          <a:blip r:embed="rId1"/>
          <a:stretch/>
        </p:blipFill>
        <p:spPr>
          <a:xfrm>
            <a:off x="6072120" y="10024920"/>
            <a:ext cx="1332000" cy="590760"/>
          </a:xfrm>
          <a:prstGeom prst="rect">
            <a:avLst/>
          </a:prstGeom>
          <a:ln w="0">
            <a:noFill/>
          </a:ln>
        </p:spPr>
      </p:pic>
      <p:pic>
        <p:nvPicPr>
          <p:cNvPr id="44" name="Bild 1" descr=""/>
          <p:cNvPicPr/>
          <p:nvPr/>
        </p:nvPicPr>
        <p:blipFill>
          <a:blip r:embed="rId2"/>
          <a:stretch/>
        </p:blipFill>
        <p:spPr>
          <a:xfrm>
            <a:off x="468360" y="666720"/>
            <a:ext cx="6935760" cy="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6T12:59:45Z</dcterms:created>
  <dc:creator>Ibo Peters</dc:creator>
  <dc:description/>
  <dc:language>en-US</dc:language>
  <cp:lastModifiedBy>Bussieweke, Marita, ST-ZD</cp:lastModifiedBy>
  <dcterms:modified xsi:type="dcterms:W3CDTF">2014-12-11T14:32:36Z</dcterms:modified>
  <cp:revision>23</cp:revision>
  <dc:subject/>
  <dc:title>Folie 1</dc:title>
</cp:coreProperties>
</file>