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E74-5235-4B29-8AAB-1B2A4A89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576-7143-4DE0-BF0C-23CEA2E9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287-7A3E-4A57-B5C0-44C3FDD6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8DF-C513-41DC-8416-8E420552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80F-A1F2-45ED-A376-D6CD9B0A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591-A2D2-4368-999B-590A6AA4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F1A-FDE4-4BEC-8416-10B33B2F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6F7-603B-4D67-AA55-637041E9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780-43BE-4EB4-A8C6-58A2397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1E7-309A-4670-9FA5-3D60A4D3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F54-C396-42E2-8D12-80C1E388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D13-8E29-4B99-9059-EDFB31F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BDFE-214C-4056-96D7-C8CF14DA6F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8" descr="Logo_BürgerForum.png"/>
          <p:cNvPicPr/>
          <p:nvPr/>
        </p:nvPicPr>
        <p:blipFill>
          <a:blip r:embed="rId1"/>
          <a:stretch/>
        </p:blipFill>
        <p:spPr>
          <a:xfrm>
            <a:off x="6072120" y="10024920"/>
            <a:ext cx="1332000" cy="5907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 flipH="1">
            <a:off x="181080" y="411120"/>
            <a:ext cx="72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rutiger 45"/>
              </a:rPr>
              <a:t>Wie zufrieden sind Sie mit der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Frutiger 45"/>
              </a:rPr>
              <a:t>Ergebniswerkstatt des BürgerForu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bgerundetes Rechteck 3"/>
          <p:cNvSpPr/>
          <p:nvPr/>
        </p:nvSpPr>
        <p:spPr>
          <a:xfrm>
            <a:off x="3324240" y="1962000"/>
            <a:ext cx="900000" cy="7345440"/>
          </a:xfrm>
          <a:custGeom>
            <a:avLst/>
            <a:gdLst>
              <a:gd name="textAreaLeft" fmla="*/ 126360 w 900000"/>
              <a:gd name="textAreaRight" fmla="*/ 773640 w 900000"/>
              <a:gd name="textAreaTop" fmla="*/ 126360 h 7345440"/>
              <a:gd name="textAreaBottom" fmla="*/ 7219080 h 7345440"/>
            </a:gdLst>
            <a:ahLst/>
            <a:rect l="textAreaLeft" t="textAreaTop" r="textAreaRight" b="textAreaBottom"/>
            <a:pathLst>
              <a:path w="21600" h="176229">
                <a:moveTo>
                  <a:pt x="10353" y="0"/>
                </a:moveTo>
                <a:arcTo wR="10353" hR="10353" stAng="16200000" swAng="-5400000"/>
                <a:lnTo>
                  <a:pt x="0" y="165876"/>
                </a:lnTo>
                <a:arcTo wR="10353" hR="10353" stAng="10800000" swAng="-5400000"/>
                <a:lnTo>
                  <a:pt x="11247" y="176229"/>
                </a:lnTo>
                <a:arcTo wR="10353" hR="10353" stAng="5400000" swAng="-5400000"/>
                <a:lnTo>
                  <a:pt x="21600" y="10353"/>
                </a:lnTo>
                <a:arcTo wR="10353" hR="10353" stAng="0" swAng="-5400000"/>
                <a:close/>
              </a:path>
            </a:pathLst>
          </a:custGeom>
          <a:gradFill rotWithShape="0">
            <a:gsLst>
              <a:gs pos="0">
                <a:srgbClr val="00b05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miley 4"/>
          <p:cNvSpPr/>
          <p:nvPr/>
        </p:nvSpPr>
        <p:spPr>
          <a:xfrm>
            <a:off x="3997440" y="2610000"/>
            <a:ext cx="1258920" cy="1260360"/>
          </a:xfrm>
          <a:prstGeom prst="smileyFace">
            <a:avLst>
              <a:gd name="adj" fmla="val 9282"/>
            </a:avLst>
          </a:prstGeom>
          <a:solidFill>
            <a:srgbClr val="a3a3e0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miley 13"/>
          <p:cNvSpPr/>
          <p:nvPr/>
        </p:nvSpPr>
        <p:spPr>
          <a:xfrm>
            <a:off x="3997440" y="5418000"/>
            <a:ext cx="1258920" cy="1260720"/>
          </a:xfrm>
          <a:prstGeom prst="smileyFace">
            <a:avLst>
              <a:gd name="adj" fmla="val 28"/>
            </a:avLst>
          </a:prstGeom>
          <a:solidFill>
            <a:srgbClr val="a3a3e0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llipse 2"/>
          <p:cNvSpPr/>
          <p:nvPr/>
        </p:nvSpPr>
        <p:spPr>
          <a:xfrm>
            <a:off x="2975040" y="8763120"/>
            <a:ext cx="1619280" cy="1619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miley 14"/>
          <p:cNvSpPr/>
          <p:nvPr/>
        </p:nvSpPr>
        <p:spPr>
          <a:xfrm>
            <a:off x="3997440" y="8109000"/>
            <a:ext cx="1258920" cy="1260360"/>
          </a:xfrm>
          <a:prstGeom prst="smileyFace">
            <a:avLst>
              <a:gd name="adj" fmla="val -4652"/>
            </a:avLst>
          </a:prstGeom>
          <a:solidFill>
            <a:srgbClr val="a3a3e0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Bild 1" descr=""/>
          <p:cNvPicPr/>
          <p:nvPr/>
        </p:nvPicPr>
        <p:blipFill>
          <a:blip r:embed="rId2"/>
          <a:stretch/>
        </p:blipFill>
        <p:spPr>
          <a:xfrm>
            <a:off x="442800" y="1500120"/>
            <a:ext cx="6961320" cy="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2:59:45Z</dcterms:created>
  <dc:creator>Ibo Peters</dc:creator>
  <dc:description/>
  <dc:language>en-US</dc:language>
  <cp:lastModifiedBy>Andreas Kleinsteuber</cp:lastModifiedBy>
  <dcterms:modified xsi:type="dcterms:W3CDTF">2013-08-08T13:35:34Z</dcterms:modified>
  <cp:revision>21</cp:revision>
  <dc:subject/>
  <dc:title>Folie 1</dc:title>
</cp:coreProperties>
</file>